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F7B-57E0-4E2C-8788-A5EF1BB6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80D-975B-4579-8961-067B9523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038-7A74-425D-8BE5-2C1A81D7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49F-9C9A-476A-97FA-9096EB77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8CD-0FE3-4C99-9C26-BA131604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DC9-5593-4B10-9034-3A520311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C40-3987-4793-B897-804F0B8E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84C-7024-4A40-80F6-58593E74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234-3589-4575-904E-EE498594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1C8-4729-4A90-AE9E-E6A01109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180-730B-4ECC-93BB-2172F302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2B2-AD2B-47C5-B9CB-C6AA0146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CA34-C1B9-45C5-B2DF-6A1DFBC92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413000"/>
            <a:ext cx="7777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OLON AMETS BATEN BI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801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801"/>
                </a:solidFill>
                <a:latin typeface="Showcard Gothic"/>
              </a:rPr>
              <a:t>KOLONEN ITSASONTZ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801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801"/>
                </a:solidFill>
                <a:latin typeface="Showcard Gothic"/>
              </a:rPr>
              <a:t>BIOGRAF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801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801"/>
                </a:solidFill>
                <a:latin typeface="Showcard Gothic"/>
              </a:rPr>
              <a:t>BIDA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801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801"/>
                </a:solidFill>
                <a:latin typeface="Showcard Gothic"/>
              </a:rPr>
              <a:t>AURKIKUNT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476280"/>
            <a:ext cx="3389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URKIBIDE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801"/>
                </a:solidFill>
                <a:latin typeface="Showcard Gothic"/>
              </a:rPr>
              <a:t>KOLON HIRU ITSASONTZI ERAMAN ZITU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801"/>
                </a:solidFill>
                <a:latin typeface="Showcard Gothic"/>
              </a:rPr>
              <a:t>AMERIKET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801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801"/>
                </a:solidFill>
                <a:latin typeface="Showcard Gothic"/>
              </a:rPr>
              <a:t>SANTA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801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801"/>
                </a:solidFill>
                <a:latin typeface="Showcard Gothic"/>
              </a:rPr>
              <a:t>LA NIÑ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801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801"/>
                </a:solidFill>
                <a:latin typeface="Showcard Gothic"/>
              </a:rPr>
              <a:t>SANTA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310200">
            <a:off x="1763280" y="188640"/>
            <a:ext cx="4967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OLONEN ITSASONTSIA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79640" y="549360"/>
            <a:ext cx="475596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TSASONTSIA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64000" y="3933720"/>
            <a:ext cx="2586240" cy="228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24360" y="1989000"/>
            <a:ext cx="1368360" cy="935280"/>
          </a:xfrm>
          <a:prstGeom prst="rect">
            <a:avLst/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801"/>
                </a:solidFill>
                <a:latin typeface="Showcard Gothic"/>
              </a:rPr>
              <a:t>LA NI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801"/>
                </a:solidFill>
                <a:latin typeface="Showcard Gothic"/>
              </a:rPr>
              <a:t>(CARABE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43640" y="1484280"/>
            <a:ext cx="1657440" cy="1295280"/>
          </a:xfrm>
          <a:prstGeom prst="rect">
            <a:avLst/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801"/>
                </a:solidFill>
                <a:latin typeface="Showcard Gothic"/>
              </a:rPr>
              <a:t>LA SA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801"/>
                </a:solidFill>
                <a:latin typeface="Showcard Gothic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801"/>
                </a:solidFill>
                <a:latin typeface="Showcard Gothic"/>
              </a:rPr>
              <a:t>(ITSASONTZ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1844640"/>
            <a:ext cx="1297080" cy="1297080"/>
          </a:xfrm>
          <a:prstGeom prst="rect">
            <a:avLst/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801"/>
                </a:solidFill>
                <a:latin typeface="Showcard Gothic"/>
              </a:rPr>
              <a:t>LA P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801"/>
                </a:solidFill>
                <a:latin typeface="Showcard Gothic"/>
              </a:rPr>
              <a:t>(CARABE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2232000" cy="2208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276720" y="4005360"/>
            <a:ext cx="1828800" cy="2504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rot="19345800">
            <a:off x="899640" y="3573000"/>
            <a:ext cx="1295640" cy="360360"/>
          </a:xfrm>
          <a:prstGeom prst="leftArrow">
            <a:avLst>
              <a:gd name="adj1" fmla="val 50000"/>
              <a:gd name="adj2" fmla="val 89885"/>
            </a:avLst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9345800">
            <a:off x="3492000" y="3357360"/>
            <a:ext cx="1295640" cy="360360"/>
          </a:xfrm>
          <a:prstGeom prst="leftArrow">
            <a:avLst>
              <a:gd name="adj1" fmla="val 50000"/>
              <a:gd name="adj2" fmla="val 89885"/>
            </a:avLst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9345800">
            <a:off x="5940000" y="3284280"/>
            <a:ext cx="1295640" cy="360360"/>
          </a:xfrm>
          <a:prstGeom prst="leftArrow">
            <a:avLst>
              <a:gd name="adj1" fmla="val 50000"/>
              <a:gd name="adj2" fmla="val 89885"/>
            </a:avLst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56000" y="4869000"/>
            <a:ext cx="38480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AKIN AITOR A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ERAY DANI NAHIKAR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ª LUIS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26920" y="1268280"/>
            <a:ext cx="6985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010f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UKAERA</a:t>
            </a:r>
            <a:endParaRPr b="0" lang="en-US" sz="1800" spc="1" strike="noStrike">
              <a:ln w="9360">
                <a:solidFill>
                  <a:srgbClr val="1010f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404640"/>
            <a:ext cx="107928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386064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2000" y="47628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8136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24720" y="465300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85080" y="220500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26028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333360"/>
            <a:ext cx="107928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5229360"/>
            <a:ext cx="1079640" cy="107928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2:58:48Z</dcterms:created>
  <dc:creator>Ik015111zz</dc:creator>
  <dc:description/>
  <dc:language>en-US</dc:language>
  <cp:lastModifiedBy>Ik015111zz</cp:lastModifiedBy>
  <dcterms:modified xsi:type="dcterms:W3CDTF">2012-05-17T12:16:30Z</dcterms:modified>
  <cp:revision>5</cp:revision>
  <dc:subject/>
  <dc:title>Diapositiva 1</dc:title>
</cp:coreProperties>
</file>